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5E94-B738-44BF-9FFE-70FF0EA7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A0BA-2B36-491B-954D-BBE1C2B9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B605-D25D-49C3-A0AF-3B594F8C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F323-A487-4A10-9EE5-29B3DF70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E4FB-238E-422B-9615-DDFE7583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92F3-F441-4399-A35D-0C3FDBF5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5005-FFB0-49CD-A055-9E63242E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CB1A-0370-4E77-A918-1A07E626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FF9C-0F11-4A58-B9BB-29BB4159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80E1-6BD2-42D3-94A6-189B2060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F8A8-1640-4FBF-97DC-0CC42CEC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16BE-8308-4219-BC6B-8AE73261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E55F-8255-46E3-890D-A557229E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84EE-B921-4EC2-BAD0-E4DB14B0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26C1-3700-44FB-A6AE-6C00A8FC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9327-CF3B-4DA2-A5EB-E80063BE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B46C-360E-4ED7-B9AE-217EA278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445EB-A953-41EF-9B50-498977AB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7B1F2-9134-4D2E-AD95-705DC6C0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2CB3C-9AE3-4803-A96A-64DE1CFA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66DD3-EEBC-4A86-B7DA-77519D0C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1A135-E9C1-4FC1-97E6-447E4A3A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C873-75DB-4FC1-946F-3833D1A2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62C9F-258F-4AB7-8CBA-D88E7B3A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F38AA-8DCA-4424-8B40-8D9949F7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F5ACF-322F-4FAB-AE97-81015003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42469-9E4F-4741-882E-D7EE0AC8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5AA71-4AE5-49D7-9D3B-108CEB84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8DE6F-798C-4174-A4D6-5102DB2E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DF9AA-66C6-42E8-B224-3B34FF81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F50FB-A093-40E4-9EFC-490141A0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18C4E-EEEB-4BEA-98FA-1AA7254F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25A8E-C881-45CA-BCF2-97181A18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EFF3-D18B-4E1C-8141-2F05B922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06652-BACA-4CE9-836D-708F1D4F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40D56-A66D-4031-93B9-C0A19432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8632E-EDDB-47B2-A6A0-9A13EF0D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E832E-E085-473E-9500-0C19F44B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D3DBC-D742-48B2-B364-1B35A750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9C055-6CCE-4C61-B637-76A05BE2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E3C99-9513-4052-95F8-970BDCCF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C4B59-8FF1-445A-818D-72A29278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B735E-2948-4569-8CBE-DC138126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C3C8-459D-4297-8126-1F80D43F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5556-019A-4821-B360-CCF714E5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A096-46DE-411A-8842-0A0F59F6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2CBE-9037-4913-863D-AF9F62CF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163C-0C2B-47BF-9AED-5A79A74E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C5F2-7CE5-41D2-8D50-35AE74BCECB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288C-EAB9-4301-BD1B-476DD830B20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D2F0-2CDF-4711-8C38-E5EFCB92E84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50E2-FB37-4D71-A55E-D285E1E3778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-92160" y="4611600"/>
            <a:ext cx="2995560" cy="2246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404040" y="3854520"/>
            <a:ext cx="2716200" cy="203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894040" y="46911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680080" y="494676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комп5</cp:lastModifiedBy>
  <dcterms:modified xsi:type="dcterms:W3CDTF">2022-11-23T11:33:06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